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A43-5CB7-41DA-A5B1-7E5867E3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980-CDC2-4B7F-903C-39DFD9F4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A9D-69C1-4A9F-AFCA-653568F1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8C8-1BC9-4C71-9A79-1A92F51F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8866-73CC-477B-8930-625925C4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0852-00F1-42B5-BBA1-E2A0BC1A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FD69-C843-4D12-B4C2-AE968F92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53B6-9DAA-4C23-B1FD-1EB9544F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7ADA-5A4B-4208-A90B-5200855A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31A6-43DB-4164-AD60-8A4A9174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2190-3803-4EEC-9648-1D2F374B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E69-6E6B-422B-BA11-152861B6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C6BE-7E3F-47F5-87CC-387CE19B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6703-2774-419E-98E6-59B80C38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1D46-3A3C-4681-B8D6-79036C9A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A040-8D6E-42ED-B89D-2964692E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EC8D-B04C-4A5D-8E68-CE1FE3412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C34-D78A-489A-BB03-035D025A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E79-5C3B-4E47-8632-C2267030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333-0F9F-44A9-83BD-D0D9BF5A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722-42DA-42E1-B613-A7842C29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6B32-C09A-486A-9250-33413E3C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3DD-FEA9-4E39-8BFB-47AAE1EF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159-5B62-47AE-9286-23049AB1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3E5C-C731-408C-A3EA-AE0BAA7028BB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0779-CF45-44A9-A244-8FFCD368482D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7101-346F-4630-ABE4-E78D71B42C12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D445-EDF2-4F1C-B68B-D368936F9737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00200" y="14475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TRENINK  ŽACTVA  V  OB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etr We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2456-2F9B-4B2B-8039-EC3F087DEA6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1EAAE74-E612-4D73-975D-4747F4B979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Část I – </a:t>
            </a:r>
            <a:r>
              <a:rPr b="1" lang="cs-CZ" sz="4800" spc="-1" strike="noStrike" u="sng">
                <a:solidFill>
                  <a:srgbClr val="ffffcc"/>
                </a:solidFill>
                <a:uFillTx/>
                <a:latin typeface="Arial Narrow"/>
                <a:ea typeface="Times New Roman"/>
              </a:rPr>
              <a:t>organizační záležitosti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/ Jak žáčky a žákyně do oddílu přiláka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/ V jakém věku děti nabíra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/ V kterém ročním období začí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/ Bude stačit jeden trenér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5/ Čím začít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EBE-FC51-4017-8E48-BD27F9B965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DB754-05AC-45BB-8F02-232B833E648E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Část II – </a:t>
            </a:r>
            <a:r>
              <a:rPr b="1" lang="cs-CZ" sz="4800" spc="-1" strike="noStrike" u="sng">
                <a:solidFill>
                  <a:srgbClr val="ffffcc"/>
                </a:solidFill>
                <a:uFillTx/>
                <a:latin typeface="Arial Narrow"/>
                <a:ea typeface="Times New Roman"/>
              </a:rPr>
              <a:t>Jak a co trénovat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Žactvo =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bdobí základní příprav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etapa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portovní předpříprav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/„školka OB“/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7-9 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ěhem této etapy by děti měli bez problémů zvládnout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základní mapový klíč pro 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orientaci mapy podle teré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držení palce  na map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určení vlastního stanoviště na map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orientaci mapy podle buz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nebát se v lese  sá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F38D-5354-41C1-A1DE-EFA23B15807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FBAD3-4EC2-4D69-85B8-278A86FA4204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2. Etapa</a:t>
            </a:r>
            <a:r>
              <a:rPr b="1" lang="cs-CZ" sz="4000" spc="-1" strike="noStrike">
                <a:solidFill>
                  <a:srgbClr val="ffffcc"/>
                </a:solidFill>
                <a:latin typeface="Arial Narrow"/>
              </a:rPr>
              <a:t>:</a:t>
            </a:r>
            <a:r>
              <a:rPr b="1" lang="cs-CZ" sz="40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 </a:t>
            </a:r>
            <a:r>
              <a:rPr b="1" lang="cs-CZ" sz="4000" spc="-1" strike="noStrike" u="sng">
                <a:solidFill>
                  <a:srgbClr val="ffffcc"/>
                </a:solidFill>
                <a:uFillTx/>
                <a:latin typeface="Arial Narrow"/>
                <a:ea typeface="Times New Roman"/>
              </a:rPr>
              <a:t>základní  specializovaná příprava 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9-11 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ěhem této etapy by měli postupně zvládnout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čtení mapy za chů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přehazování vyhýbek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již před odbočkou vědět, k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měřítko mapy a jeho význam pro odhad vzdále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zkracování fáborkované tratě podle výrazných lini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určení výrazných záchytných bodů viditelných z li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základní znaky piktogramů na popisech k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865-15F0-430B-AB77-CB43C36C10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7AB23-3259-4796-8A9B-FA8EB5D0A139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3. etapa 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: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  </a:t>
            </a:r>
            <a:r>
              <a:rPr b="1" lang="cs-CZ" sz="4800" spc="-1" strike="noStrike" u="sng">
                <a:solidFill>
                  <a:srgbClr val="ffffcc"/>
                </a:solidFill>
                <a:uFillTx/>
                <a:latin typeface="Arial Narrow"/>
                <a:ea typeface="Times New Roman"/>
              </a:rPr>
              <a:t>počáteční specializace</a:t>
            </a:r>
            <a:r>
              <a:rPr b="1" lang="cs-CZ" sz="4800" spc="-1" strike="noStrike" u="sng">
                <a:solidFill>
                  <a:srgbClr val="ffffcc"/>
                </a:solidFill>
                <a:uFillTx/>
                <a:latin typeface="Arial Narrow"/>
              </a:rPr>
              <a:t> </a:t>
            </a:r>
            <a:r>
              <a:rPr b="1" lang="cs-CZ" sz="1800" spc="-1" strike="noStrike">
                <a:solidFill>
                  <a:srgbClr val="ffffcc"/>
                </a:solidFill>
                <a:latin typeface="Arial Narrow"/>
              </a:rPr>
              <a:t>1</a:t>
            </a: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1-14 let</a:t>
            </a: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ytrvalost – zvyšovat zejména počet tréninkových jednotek mírnou intenzit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íla – posilovat všestranně, dynamická cvičení, krátké 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i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enší zátě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ychlost – používat střední a kontrolované rychlosti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upňované úseky,  změny rychlosti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hebnost, pohyblivost – streči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echnika běh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do každého tréninku ABC at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iné sportovní aktivity – kolo, lyže, kolečkové brusle , plaván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FE4-9AF3-4A61-85F0-D5C6354F7E1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D9110-8458-4A18-8379-0A034DA9F71C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cc"/>
                </a:solidFill>
                <a:latin typeface="Arial Narrow"/>
                <a:ea typeface="Times New Roman"/>
              </a:rPr>
              <a:t>V tomto období již postupně přejít na zvládnutí základních orientačních technik 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sné čtení m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rubé čtení m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rubý azim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sný azimut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dhad vzdálenosti , případně i kroková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B07-9B5B-458F-A2A0-4E550429B0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A108E2-6D46-452A-B12D-D890059EB4DE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         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Další kroky  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eprve po zvládnutí jednotlivých dovedností  je možno je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stupně procvičovat společn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Účast na závodech musí být pouze jednou ze součástí příprav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ílem je co nejvíce se naučit, nikoliv výsledek 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 kategorie 13-14 letých zač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í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již s evidencí tréninku  i pravidelným testování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e vhodné využít i účast na krosech a atletických závode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 těch vyspělejších je možno přecházet i na mapy se sníženým počtem informací /ve vhodném terénu např.vrstevnicové mapy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A4C-38F8-46A4-999A-509EC5517F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50768-A072-4303-A681-392AB2BCFD65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r Weber</cp:lastModifiedBy>
  <dcterms:modified xsi:type="dcterms:W3CDTF">2007-12-07T05:19:33Z</dcterms:modified>
  <cp:revision>2</cp:revision>
  <dc:subject/>
  <dc:title>Prezentace aplikace PowerPoint</dc:title>
</cp:coreProperties>
</file>