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7C3-83E1-4107-BB76-5051B7FB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A009-7B3E-4F2C-B7C8-F451A3F7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C48-E71A-48E9-B97C-C205E318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D21-B03C-47DB-859E-9BD7DA2A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93EC-EA10-4C03-8AF8-61030ACB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8850-CB3E-4B80-A62A-1A8EDC1A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DE2A-5C84-4220-A493-5E09866D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BE1A-29D9-4149-A761-71CC7CE4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7DC1-76A9-4E18-B98F-01D32C75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6C52-FECF-44A7-9B74-70530941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4273-F88B-485B-B4BD-054E5AAB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E86-E0D7-441F-B866-64CF3A71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8B83-BF5B-4713-A917-0DAA75D5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B3CA-1209-4B1D-BBA1-8964F9F2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36C6-E406-46EB-BF9B-1061A17D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57F1-90F5-4D72-9E3D-7ED54F16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31A0-5C46-4A04-A494-2D660FC8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379-8C74-4C77-9D10-34174EE2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C55-EF7D-42FA-B3AF-7D8CF22E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02F-A65A-41BE-A2E8-C1E877A3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EF04-D6B9-4467-A910-36EDD1FC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F90-B5CB-4436-99EB-B1D0EAC7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F89-C938-47E7-B489-70FB2AEF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745-39FE-41FF-AFFE-9E669690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711D-8DC2-4C98-831E-B22656A555B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7337-AE75-4077-94F2-61F31980B8C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rénink orientační techniky</a:t>
            </a: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uhy orientační techniky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ce trénin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íprava mapového trénink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ce tréninkové jednotky Evidence tréninků trenérem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py na různé druhy mapových tréninků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ipy na různé druhy mapových tréninků </a:t>
            </a: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/ čtení mapy – převod mapy do 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terénu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 mapová teorie –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 mapy číst postup a záchytné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 chůze nebo klus s mapou –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tení dopředu /přehazování vyhýbek, jasné záchytné body                                                          viditelné z linie 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mapové přeběhy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turistickými mapami,mapami pro LOB, ortofoto ap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liniový běh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noho různých způsob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běh přes záchytné body  / lomenou čáru, nebo body v mapě zvýraznit/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běh v koridoru  /bez buzoly !/ = housen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/ mapové výseč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B/ 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převod  terénu do mapy :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dvojice – 1. běží s mapou,druhý bez mapy , střídání po 1-3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běh přes slepé pros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vzájemná stavba kontrol – pro dor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mapování – pro starší dor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najdi 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/ sudá-lich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/ 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mapová paměť :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mapový golf –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vojice, pohled do mapy max. 10´´ ,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ždé podívání = bod .Po každé kontrole střídá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paměťová hvězdice –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up vždy na jednu kontrolu a zpě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paměťový skorelauf -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troly do kruhu, kdo zapomene další postup,běží se na start podív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postup z kontroly na kontrolu bez map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každé kontrole kousek mapy s dalším postup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pisem kontrol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noční 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/ 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volba postupu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/ mapová teorie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/použít mapy starších kategorií, časopis OB, internet, rozbory po závodě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/ běh z K-K různými postup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a/ vyrovnané dvojice běží různými postupy, měří si č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/ trať každý běží 2x /3x/ podle počtu volitelných možností, po tréninku se vyhodnocují nejrychlejší /vhodné zejména na soustředě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 /  schopnost udržet směr  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68400" indent="-68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hrubý azimut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jasné body /křižovatky a pod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azimutové dlouhé úseky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slepou map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běh přes slepý prostor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prouž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, zalepený střed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.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 azimutová hvězdice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/ s mapo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/ se slepou mapou /+ vzdálenost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švýcarská h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/ noční trénin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/ </a:t>
            </a:r>
            <a:r>
              <a:rPr b="0" lang="cs-CZ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dhad nebo měření vzdálenosti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postup ve skupině – odhad vzdálenosti na výrazné body viditelné z linie  /žactvo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krokování na vzdálenosti do 100 m – nácvi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běžecký okruh s různě dlouhými měřenými úseky /označit písmeny/ / v každém kole jiný úda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čtverec – udržení směru dle světových stran /4x změnit/+ krok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abíhání kontroly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mapová teorie – spojit s taktikou /jaké záchytné body, jak nabíhat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nabíhání kontrol ze záchytných bo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nabíhání kontrol podle „zábradlí 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prodlužování záchytných bo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změny tempa při nabíhání kontroly – zelená-žlutá-červen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/ nabíhání kontrol ve svahu – postupy traverz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/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Kombinované,nebo zajímavé trénin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různé varianty na vrstevnicové mapě /linie,hrubá orientace atd.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běh v max.tepové frekvenci /  výběh do prudkého svahu + seběh přes kontroly dolů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ěžecký okruh submax.intenzitou + mapový okru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trénink s falešnými kontrolami /najdi tu pravou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shluky k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/ okruhy s limi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 hon na zajíce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/ OB s otázkami /+varianty dalších úseků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/ všichni běží všechno,ale každý jin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/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éninky s hromadným star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/ skorelau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/ liniový skorelau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/ skorelauf se sbíráním k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/ start 1.úse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/ ko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ruhy orientační technik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chopnost číst mapu   - převod mapy do teré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řevod terénu do m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pová paměť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olba postu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chopnost udržet smě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had nebo měření vzdále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ěhnutí kontr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Možné způsoby tréninku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cvik jednotlivých doved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cvik více dovedností zároveň  -  čtení mapy + azimut ,  azimut + vzdálenost ap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mplexní mapový trénink  -  tréninková trať,cvičný závod,méně důležitý závod /oblastní žebříček/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rganizace tréninku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án mapové přípravy na určité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ro-podzim, cyklu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oroční, / kdy, kde, co,   prostor, mapa, druh cvičení, /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áplň trénink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 jednotlivých obdobích 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mní období = mapová teorie, vycházky s mapo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ž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vo/ ,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běhy s mapou/dor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ro                =  nácvik a opakování jednotlivých základních dovedností, postupný přechod na komplexnější form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vod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dobí =  cílený trénink na důležité závody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Příprava mapového tréninku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ácí příprav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ísto i druh tréninku a připravit si jej na map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prava v terénu =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dle připraveného návrhu označi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troly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prava map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popisů kontrol, pokynů pro trénink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íprava časového programu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éninku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ro stavbu tréninku musí platit stejné zásady, jako pro stavbu tratí :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umístění kontroly v mapě i v terénu musí být jednoznačné /bod-nikoliv linie !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umístění a viditelnost kontroly musí odpovídat obtížnosti úseku a způsobu orientace, kterým se má závodník ke kontrole dos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kolí kontroly včetně záchytných bodů v terénu musí souhlasit s map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obtížnost úseku i kontroly musí odpovídat vyspělosti trénující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  popis kontroly musí být jednoznač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ž v tréninku musí trenér své svěřence učit, ž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TROLU JE NUTNO NABĚHNOUT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KOLIV  HLEDA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! !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rganizace tréninkové jednotky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vodní část :  Seznámení s cílem trénin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cvič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avní část : Trenér při tréninku by měl především sledovat své svěřence v le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věrečná část :  Hodnoce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ahování a vyklu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žení kontrol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vidence tréninků trenérem</a:t>
            </a:r>
            <a:r>
              <a:rPr b="0" lang="cs-CZ" sz="44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 = jeden sešit na vš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mínky :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tálená baterie test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idelnost, systematičnost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rpělivo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6:01:40Z</dcterms:created>
  <dc:creator>Petr Weber</dc:creator>
  <dc:description/>
  <dc:language>en-US</dc:language>
  <cp:lastModifiedBy>Petr Weber</cp:lastModifiedBy>
  <dcterms:modified xsi:type="dcterms:W3CDTF">2007-12-10T04:34:19Z</dcterms:modified>
  <cp:revision>2</cp:revision>
  <dc:subject/>
  <dc:title>Trénink orientační techniky </dc:title>
</cp:coreProperties>
</file>