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1C790-F4A7-447D-87E0-6B0FF8CA5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6547F-58C3-413C-B632-71E9AB7A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0077D-EEE5-4EC2-96AD-28D7424C1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2C1DE-08AD-44B5-B3D1-6676F813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5502-7C61-4D81-8150-8B945A767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2C8F-8DE7-40D0-AF7D-F707F8A1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38FB-42E5-411E-A828-2A13E4C6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7CC8-CF0E-41D9-8CA3-9F6BDD6E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9943-C045-48D8-A949-3AE5E020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EC88-55E4-42F5-A0A7-F5BA7770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0969-0BDD-4C3D-9717-B1FE9B76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1F9BB-21F6-44D9-BC77-1850DFAA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E669-528F-4E72-B354-10AB1E0D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0027-7494-4ABA-B3B7-5FA88F15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66A5-7ECF-4A3C-BC25-D0A9433E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CD4A-5D0F-46D7-90A0-AAAFD918C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8731-E037-403F-8821-0E0297397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E9FE8-3A7D-4661-BBB7-09BD92C6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5AE33-D8A1-4E1C-A75F-5F0AABD1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BFA6F-F3C2-4214-9CFA-270FF3AC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3F4E8-ED77-46EE-8371-B922992E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A60DA-EF46-413B-A0D9-30D2C072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04191-F81B-44E9-8A33-2FDC4EA9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54CD1-9E1E-4AB9-A26A-E249B917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5A2A-84F1-4182-B2DA-877FCB5FD3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8F85-E641-455B-94AA-CBBFC95361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Organizace táborů pro žactvo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enka Klimpl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dení družstev na letních táborech se zaměřením na O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dělení účastníků tábora do družstev dle věku a zkušeností s 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-14 členů ve družstvu, ideální sudý poč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dení družstev dětí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ladšího školního věk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ní princ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ce - dva hlavní úkoly motivace ve sportovní přípravě dětí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žitkové – zažít legraci, hrát si, zažít něco, na co budu rád vzpomín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ýt úspěšný – moci srovnávat své síly a dovednosti s ostatními, umět něco, co ostatní nedokáž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rientační tréninky pro nejmenší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6 až 8 le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testování znalostí a orientačních schopností jednotlivých dě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cházka s map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vězdice (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ukázk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vou až tří kontrolové okruhy (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ukázk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lasická trať (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ukázk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rientační tréninky pro starší děti 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(9 až 11 let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vězd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měťové hvězd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kru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lasická trať (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ukázk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voukolový s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énink s hromadným startem (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ukázk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orela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měťový scorela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udá-lich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dení družstev dětí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ršího školního věk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 hry k pov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lídat životosprávu (ponocování, konzumace alkohol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íše demokratický styl ved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tazníček před začátkem táb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skuse před tréninky - vysvětlení cíle a smyslu tréninku, možné takt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 tréninku rozbor postupů a chy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gramová náplň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 děti staršího školního věk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kru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měťová sudá-lich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énink na vrstevnicové mapě (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ukázk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aga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voukolový s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měťový scorela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lasická trať (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ukázk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kalní sprinty (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ukázk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védské přeběhy (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ukázk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ční 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zimuty = azimutové postupy na záchytnou linii (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ukázk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TB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gaining (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ukázk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bsah přednáš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k připravit úspěšný o-táb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nérský přístup a styly vedení u jednotlivých věkových kategor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dení družstev na letních táborech se zaměřením na 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vedení družstev mladšího školního vě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taršího školního vě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ak připravit úspěšný o-táb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povídající provozní zázem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ální zabezpeč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ová nápl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enérský přístup a styly vedení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k se liší trenérský přístup u dětí mladšího školního věku (6 až 11 let) a dětí staršího školního věku (12 až 15 let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enérský přístup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 mladším školním věk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ní princ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pnost koncentrace omezena – činnost musí být pestrá a obměňova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ejímání názorů druhých, dospělí autoritou – trenér by měl působit vlastním příklad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enérský přístup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 mladším školním věku I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nér by měl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ůsobit na usměrnění spontánních pohybových aktivit k systematické pohybové příprav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zvíjet koncentraci, posilovat vůli, formovat vlastnosti osobnosti, kolektivní cítění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důrazňovat také správnou životosprávu, hygienu a celkový denní reži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enérský přístup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 starším školním věk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tní a diskrétní přís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bré řešit větší přestupky s určitým časovým odstup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hýbat se ironii, nevystupovat příliš autoritativn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nér spíše starším a zkušenějším přítelem, otevřeným a chápajíc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enérský přístup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 starším školním věku I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tváří se vztah ke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spor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ejen jako ke hře, ale i „k určité činnosti, která se stává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vinnost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především tehdy, chce-li talentovaný jedinec v budoucnosti dosáhnout úspěchů“ (Perič, 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=&gt;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enér by měl upevňovat zájem o sport, zajímat o životosprávu a denní režim svých svěřenců a vést je k lepšímu využívání ča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incip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ndividualiz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enérské styly ved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yl jednání s druhými lidm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utoritativ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kratick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berál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3:37:21Z</dcterms:created>
  <dc:creator>Lenka</dc:creator>
  <dc:description/>
  <dc:language>en-US</dc:language>
  <cp:lastModifiedBy>Lenka</cp:lastModifiedBy>
  <dcterms:modified xsi:type="dcterms:W3CDTF">2007-12-08T17:20:53Z</dcterms:modified>
  <cp:revision>11</cp:revision>
  <dc:subject/>
  <dc:title>Organizace táborů pro žactvo</dc:title>
</cp:coreProperties>
</file>